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082D-1240-4C5A-B5CD-F7574B26B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03B4-CC1F-46A9-A1A9-5981E5164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FFDF-0032-4B61-B59E-2D3050AD7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CAA3-82A1-4F29-8BD3-9309B3E10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CEFF-CC07-4445-9B5C-7C6C5447A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8A90-1516-43F5-B4E6-A8221ACC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FEC6-88F7-48A5-94A4-0284E4CB0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ED1D-E608-4481-BBF5-EC695F5AE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4BA4-80E1-4552-95BA-C0EAFC3ED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1582-4870-4E8C-ABAD-A30B6935F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3EFB-2BD4-486B-BD86-5DF63FA2E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D34E-5AEF-4278-9F45-5B40A62EA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sv-SE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A4E415-0854-4E1B-82D6-9D6426B38C73}" type="slidenum">
              <a:rPr b="0" lang="sv-SE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commons/f/fc/Hydroelectric_dam_without_tex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Power Generation for Wroc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427640" y="5950080"/>
            <a:ext cx="4495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T project by Malena, grad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d6e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8228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formations:    &amp;    Pi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pedia                 Googl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5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81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Thank you for watching my presentation,                                     I hope you like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Technologies o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Coal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Hydro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303640" cy="145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1538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215892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icity gen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echnologies need a generator that turns. A rotating generator creates electrical power (voltage, curr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technologies is how to make the generator t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is sent around the country using high-voltage power lines. Nearly all of the power we use comes from large power st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Wind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68360" y="1628640"/>
            <a:ext cx="8229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power plants use the wind. Wind blows into the blades (turbine) that start to rotate and turn the gen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ollution and very sa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st for any fuel. The wind is for fre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 easy and quick to install and take a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o powerful, many mills are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 costly to build per power gener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d does not blow all the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y and some people find the mills ug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built where it is win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14820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Coal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68360" y="1628640"/>
            <a:ext cx="8229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l powder is burned in high temperature to produce very hot water steam. This steam is put on the blades in a turbine that drives the generator to tu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 is cheap and is not scarce. A lot in Po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, cheap produced electr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almost any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warming, not renewabl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to take a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6732720" y="2637000"/>
            <a:ext cx="1769760" cy="1808280"/>
            <a:chOff x="6732720" y="2637000"/>
            <a:chExt cx="1769760" cy="180828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6732720" y="2637000"/>
              <a:ext cx="1769760" cy="17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6735240" y="4077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Arial"/>
                </a:rPr>
                <a:t>tur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2303640" cy="154764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>
            <a:off x="5508720" y="2205000"/>
            <a:ext cx="223200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Hydro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79280" y="1484280"/>
            <a:ext cx="87138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in a dam is let out through a hole deep under water. Then the pressure is strong enough to make the water turn the blades in a turbine that drives the generator to tu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is f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powerful, cheap produced electr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o build it at waterfalls. Can be far from 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for animals and fish after the 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and long time to bui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to take a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dam brakes it will be a very big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2492280"/>
            <a:ext cx="237672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3203640" y="2276640"/>
            <a:ext cx="424800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7557840" y="2160720"/>
            <a:ext cx="903240" cy="1619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roclaw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566720"/>
            <a:ext cx="822960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: 270 M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use: 2,4 TW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money: 1379 million z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that can 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st is it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11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mp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9560" y="1112760"/>
          <a:ext cx="7710840" cy="5275440"/>
        </p:xfrm>
        <a:graphic>
          <a:graphicData uri="http://schemas.openxmlformats.org/drawingml/2006/table">
            <a:tbl>
              <a:tblPr/>
              <a:tblGrid>
                <a:gridCol w="1927440"/>
                <a:gridCol w="1928880"/>
                <a:gridCol w="1927080"/>
                <a:gridCol w="19274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lu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to buil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than 1 ye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to buil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000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75000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mi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0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000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out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to produc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 grosz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0222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5974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are need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 Wroclaw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 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And Hy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oal makes a lot of pollution and that is bad. For Wind the fuel is free and so for Hydro. Wind is also cheap and does not take a long time to build but the wind does not blow all the time. Hydro lasts for a long time and is very powerful but takes 3 years to bu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7:31:55Z</dcterms:created>
  <dc:creator>Jon Sintorn</dc:creator>
  <dc:description/>
  <dc:language>en-US</dc:language>
  <cp:lastModifiedBy>nauczyciel075n</cp:lastModifiedBy>
  <dcterms:modified xsi:type="dcterms:W3CDTF">2009-03-27T09:46:01Z</dcterms:modified>
  <cp:revision>33</cp:revision>
  <dc:subject/>
  <dc:title>Power Generation for Wroclaw</dc:title>
</cp:coreProperties>
</file>